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2D63-09F6-494B-881B-8F60E803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F2F5-C5F1-46FD-8450-C22F6076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D634-0CAE-4DFD-AE26-618346D0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4AC8-0B6B-4819-8D1F-3873258F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DE2-B1C0-46FA-B05A-67B8EDCB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204F-3B7A-4456-AE4E-8232E0E2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665A-4895-462B-ACD2-E4706855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2597-810D-4085-8B5F-C5E432BD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5D43-80DB-4A51-B07D-CFCCEA21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FAAB-B870-40AE-AC00-789C90F8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DB2-3EEA-40B0-B6C7-62D18B89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C7FC-C181-4217-B8F9-B508FF2A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83A8-5360-4297-90D6-7A6A83F92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rica Grasbe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el desayuno me gusta com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240" y="342900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anque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2362320" cy="1592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324480" y="4724280"/>
            <a:ext cx="2667240" cy="2000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72200" y="38862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38098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4038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toc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848720" y="1752480"/>
            <a:ext cx="2057400" cy="1932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391520" y="106668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o de 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352680" y="2590920"/>
            <a:ext cx="2610000" cy="1957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76720" y="16002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huevos y pan to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el almuerzo me gusta com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00200" y="4647960"/>
            <a:ext cx="2209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hamburgu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47242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as fr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16002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naran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676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gal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45720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ensa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le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 la cena me gusta com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3885840"/>
            <a:ext cx="3429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400800" y="4800600"/>
            <a:ext cx="236232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629400" y="2606760"/>
            <a:ext cx="2205000" cy="1763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600200" y="17524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2:08:55Z</dcterms:created>
  <dc:creator>grasbergereri</dc:creator>
  <dc:description/>
  <dc:language>en-US</dc:language>
  <cp:lastModifiedBy>grasbergereri</cp:lastModifiedBy>
  <dcterms:modified xsi:type="dcterms:W3CDTF">2012-04-04T18:09:15Z</dcterms:modified>
  <cp:revision>3</cp:revision>
  <dc:subject/>
  <dc:title>Slide 1</dc:title>
</cp:coreProperties>
</file>